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E6F-1228-4A9A-B5B9-8CE12430B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10FC-EA2E-4121-94A1-E519CDA5E77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4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4400" cy="35877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8" name="Rectangle 2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9" name="Rectangl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0" name="Rectangle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1" name="Rectangle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4400" cy="35877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A3AD-E996-47F4-A2A2-0DA4FAAE40B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F13-AA55-4B0A-9873-DB19B617176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B18-6D16-47CC-AE40-0EB92511275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24C-95FE-4F53-864C-62BF34C3265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17A-809D-409B-B8E4-78380B01631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37C-946A-4965-A3D8-4C992C76C4D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833B-98A0-436A-8329-840D5EDBF7F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660C-8B89-424E-9E7E-CDF2A0115F6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059-FB81-4318-B181-6EFE112CE6F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F937-2D4E-4F45-A4E2-04975B39DF4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3E7-2337-4E6C-9C13-CC539013F19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634-211E-4E8E-BCB4-07095DB4AE9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998D-589C-4C6D-B50F-2D88F403443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E790-3831-422D-9942-2A074878A51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2C2-8D54-4D70-A181-13CAF3B762C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EB8E-068C-432B-84A2-B58F57B94F0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3086-5AFF-49F4-A7E7-E9529701B7D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30A-8F28-48E3-A247-9469B394433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0224-C0D7-4C79-8282-3A62D6174CD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644-38C9-4B8E-8DA5-A258B6F53B5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9E9-1D6E-4D25-A47E-BD132ADA260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5B23-77F1-4653-A097-6732C7A0E6B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50 MegaWatt, il fabbisogno utile per far funzionare 140.000 televisori, e uno allestito su una superficie di 5.000 metri quadrati che opera a 4 MegaWatt (la capacità di quello di Google è di 10 MegaWatt) consuma l’equivalente di 57 barili di petrolio al gi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ooter Placeholder 3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9" name="Slide Number Placeholder 4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66D-CA6F-4EA5-8901-B49A9F7D3E5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BCD-83E9-45CA-9399-B11C872FA35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84B5-E704-4365-8F1B-41A896FB589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2EC6-D64B-4702-8759-3DC10C93A4E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A8A-A142-42E3-99E3-AAE7B42AC82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9B8-515D-433B-A272-ED40E49CD5A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EA2-C999-4D3B-B543-3195FDC4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9C8-F30F-4A95-8A0F-1629148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954-33DE-4969-9460-D84285A0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3F9-70C7-4C70-B911-D7E81533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4083-0E27-4475-97F2-3CC12E02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C374-30A5-401A-868C-537FA999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6F27-D067-4C18-B377-C4904105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5DB-8958-4A88-A21B-565E5DFF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B14-A425-477F-9545-8A899C3A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F40-1D63-4471-AAF8-4341B8F8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B039-862D-40C3-8DA6-414890A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4AB-B477-42A5-A0BD-46B5AD8D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928A-9982-4FAD-B52C-62FB59B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9EA4-7FA3-44CE-ADC6-EAEAFC6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FA0C-EDF0-4DB8-B12C-B68EDDA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C1CE-1105-4F7B-AEC4-111D0087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DF29-41FB-4978-BC5B-F809B7CD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34BA-5117-4362-9335-981D80B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8E04-6656-4259-9D9B-1C799733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F169-1E4F-4BC6-855E-8BACEA8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B7C6-622E-4BFC-AD41-E32865B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1B4C-706B-4B22-A227-313E88B1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FB7-EEEB-4ED0-A54D-0281869A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8625-6020-4CA7-9550-C96C496F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0793-31EB-47B6-B77B-4DF03F3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15AA-357B-49EF-B94A-3085AD9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839A-149E-4850-9B43-707098FF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3A3D-239F-4331-B131-30ECEE3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E362-2362-4AEF-99F7-B794F027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E250-2732-4AAB-A238-9A617BD6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8722-5806-4FA2-B20C-1BD94167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FD80-05BD-4888-B6FA-CF8035A7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4782-D4E1-43DF-B214-193E7154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D0D-398B-435D-809D-D0CC8AA8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5B61-863D-4631-8BAB-5B68FD5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547F-C686-44E9-8FAB-1FFCB4B2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9751-5827-4215-99A6-99686713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93061-CC5B-4E61-851E-D4B41EFC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BA1B-A8D6-4D9D-91A2-2F639A27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5790-C868-46CB-AF3D-FD6D593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5068-28C4-4CEF-B919-17EE79EA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3BAA-A322-46A2-BA16-8BA31EF9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A27D-A193-48BB-89FF-D596DBAE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0D14-D7D4-4C47-93A3-992795C9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563-6C0D-4824-B98C-25A9C96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32DB-D7BD-40A6-AC42-B9E4C11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F68F-8084-46A6-9F7A-8D7772DF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22DC-201E-4FE7-9499-44D29ECB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96C2-40EE-49B3-AE21-92F2CAF5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912A-F7D2-4B23-8471-018954A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E063-92B9-4D26-9AC1-72B25DD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FD3D-883F-4D50-A958-49EDF47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69670-4619-4609-A70B-E486B4F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6473-5E48-455B-B8F0-73A61DB3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763A-59C9-4085-8C83-AD96A277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220-E479-4658-93F6-89D9C74A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0C2E-0DAC-4BC8-96B1-545D9479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A5336-3351-4F23-84B1-09212CBC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9ABB-82C1-49F7-AB83-0ACC120C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077D3-74B7-4798-BC93-C0E251DA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DB559-30E9-42D0-BC30-261EC81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FF787-D432-4246-8987-404B9EEB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A2D47-2C9D-4AD4-A084-92A60C83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6AF2E-F435-401E-9715-EB9EB58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C8F0D-C16D-4C79-8D20-D90C50D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0107-6884-47BC-8C48-A43544AA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3C9-3C09-4380-A054-798D429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36411-8090-4506-A88D-9389F030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7224-FB9E-4682-9A3D-19019AEC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8089-7CDA-4B55-9E53-0158ABDC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D967-527B-44E1-B5AD-5B1613DA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C4B5-A5EB-44FA-BE7D-425B2303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6876-CCDD-40E1-8200-8C67941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5E1B-0CCB-4662-9403-FBB01B03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0674-E358-4039-ACF3-99CB2CC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2C36-5F7E-4372-810D-9A026F35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C3F0-D257-41E6-8ED1-A5B6AD3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99E-34E4-43AE-9BED-E674B0C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15CA-4157-4CEA-8149-9166C68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68F9-8B4B-48BA-A2C2-6559C44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26DF4-7D9D-409F-8D25-10DE0803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85187-57B5-4242-B69A-3E0502B1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5986F-7857-42CE-BFF7-6FC1E940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1113-94C1-4760-A090-07BC4E82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ED28C-A59C-4B76-B653-38B0E68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93FA-AC64-472E-91E1-A9EE219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C044-CEE8-4A84-B85E-FA515D9C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33F29-7FFC-42A6-B708-BA9FDC5D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FAD-D90D-45A1-A9F5-78C71B5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E78F-A233-4E81-85A2-785A1E5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FCC8C-2F22-4CBE-8D78-114E0F8F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22F9C-AD42-41AE-9AFA-013E75E8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9F56-F69F-4DED-9E7E-CB78809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3AE3-B0F7-40C1-B609-C8C84C89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59D7A-89E8-43E8-BFD7-2086233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D8D9E-B83B-4F9E-8299-3DC81B97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795D-26A5-4728-85F3-2287EECB0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33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139-35CA-4824-B327-6789FF811D96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4F33-3AA6-4D81-9239-BDEB69782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7E45-E2EA-486A-BA0A-FE8E4BA67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FD2-0D57-4AD7-9877-1C14DBFB2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B677-02FC-483B-BB93-17DD22249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70A8-E081-4A21-8D3A-3B21399B0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64B-AEB6-4D58-9227-93CEF951052D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</a:rPr>
              <a:t>CS276</a:t>
            </a:r>
            <a:br>
              <a:rPr sz="2800"/>
            </a:br>
            <a:r>
              <a:rPr b="0" lang="en-US" sz="2800" spc="-1" strike="noStrike">
                <a:solidFill>
                  <a:srgbClr val="437085"/>
                </a:solidFill>
                <a:latin typeface="Calibri"/>
                <a:ea typeface="Times New Roman"/>
              </a:rPr>
              <a:t>Information Retrieval and Web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  <a:ea typeface="Times New Roman"/>
              </a:rPr>
              <a:t>Christopher Manning and Prabhakar Ragha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</a:rPr>
              <a:t>Lecture: Index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Multi-way Merges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2803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Calibri"/>
              </a:rPr>
              <a:t>Take Wikipedia in Italian, and compute word freq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ew GBs </a:t>
            </a:r>
            <a:r>
              <a:rPr b="0" i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n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How do you proceed ?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okenize into a sequence of st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Sort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e st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reate tuples &lt; word, freq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3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414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16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417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19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3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424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26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8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>
              <a:gd name="textAreaLeft" fmla="*/ 88200 w 285480"/>
              <a:gd name="textAreaRight" fmla="*/ 197280 w 28548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1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2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Few key obser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800080"/>
                </a:solidFill>
                <a:latin typeface="Calibri"/>
              </a:rPr>
              <a:t>Items = (short) strings = atomic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(n log n) memory accesses (I/Os ??)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5ms] *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≈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ttangolo arrotondato 36"/>
          <p:cNvSpPr/>
          <p:nvPr/>
        </p:nvSpPr>
        <p:spPr>
          <a:xfrm>
            <a:off x="4427640" y="5013360"/>
            <a:ext cx="4068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 practice it is a “faster”, why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icit Caching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439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1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442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4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445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47" name="AutoShape 12"/>
          <p:cNvCxnSpPr>
            <a:stCxn id="440" idx="0"/>
            <a:endCxn id="446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48" name="AutoShape 13"/>
          <p:cNvCxnSpPr>
            <a:stCxn id="443" idx="0"/>
            <a:endCxn id="446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49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450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451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53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454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5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56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457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8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   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59" name="AutoShape 24"/>
            <p:cNvCxnSpPr>
              <a:stCxn id="452" idx="0"/>
              <a:endCxn id="458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60" name="AutoShape 25"/>
            <p:cNvCxnSpPr>
              <a:stCxn id="455" idx="0"/>
              <a:endCxn id="458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61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462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463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4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65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466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7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68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469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0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71" name="AutoShape 36"/>
            <p:cNvCxnSpPr>
              <a:stCxn id="464" idx="0"/>
              <a:endCxn id="470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72" name="AutoShape 37"/>
            <p:cNvCxnSpPr>
              <a:stCxn id="467" idx="0"/>
              <a:endCxn id="470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73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474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475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6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77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478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9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80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481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2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83" name="AutoShape 48"/>
            <p:cNvCxnSpPr>
              <a:stCxn id="476" idx="0"/>
              <a:endCxn id="482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84" name="AutoShape 49"/>
            <p:cNvCxnSpPr>
              <a:stCxn id="479" idx="0"/>
              <a:endCxn id="482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85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486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487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8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89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490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1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92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493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4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95" name="AutoShape 60"/>
            <p:cNvCxnSpPr>
              <a:stCxn id="488" idx="0"/>
              <a:endCxn id="494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96" name="AutoShape 61"/>
            <p:cNvCxnSpPr>
              <a:stCxn id="491" idx="0"/>
              <a:endCxn id="494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97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498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499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0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01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502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3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04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505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6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07" name="AutoShape 72"/>
            <p:cNvCxnSpPr>
              <a:stCxn id="500" idx="0"/>
              <a:endCxn id="506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08" name="AutoShape 73"/>
            <p:cNvCxnSpPr>
              <a:stCxn id="503" idx="0"/>
              <a:endCxn id="506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09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510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511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2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13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514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5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16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517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8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19" name="AutoShape 84"/>
            <p:cNvCxnSpPr>
              <a:stCxn id="512" idx="0"/>
              <a:endCxn id="518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20" name="AutoShape 85"/>
            <p:cNvCxnSpPr>
              <a:stCxn id="515" idx="0"/>
              <a:endCxn id="518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21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522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523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4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25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526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7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28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529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0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31" name="AutoShape 96"/>
            <p:cNvCxnSpPr>
              <a:stCxn id="524" idx="0"/>
              <a:endCxn id="530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32" name="AutoShape 97"/>
            <p:cNvCxnSpPr>
              <a:stCxn id="527" idx="0"/>
              <a:endCxn id="530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33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534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36" name="AutoShape 101"/>
          <p:cNvCxnSpPr>
            <a:stCxn id="446" idx="0"/>
            <a:endCxn id="535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37" name="AutoShape 102"/>
          <p:cNvCxnSpPr>
            <a:stCxn id="458" idx="0"/>
            <a:endCxn id="535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38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539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540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1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  9   13   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42" name="AutoShape 107"/>
            <p:cNvCxnSpPr>
              <a:endCxn id="541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43" name="AutoShape 108"/>
            <p:cNvCxnSpPr>
              <a:endCxn id="541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44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545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546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7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8  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48" name="AutoShape 113"/>
            <p:cNvCxnSpPr>
              <a:endCxn id="547" idx="2"/>
            </p:cNvCxnSpPr>
            <p:nvPr/>
          </p:nvCxnSpPr>
          <p:spPr>
            <a:xfrm flipV="1">
              <a:off x="53719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49" name="AutoShape 114"/>
            <p:cNvCxnSpPr>
              <a:endCxn id="547" idx="2"/>
            </p:cNvCxnSpPr>
            <p:nvPr/>
          </p:nvCxnSpPr>
          <p:spPr>
            <a:xfrm flipH="1" flipV="1">
              <a:off x="58287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50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551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552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3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 11   12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54" name="AutoShape 119"/>
            <p:cNvCxnSpPr>
              <a:endCxn id="553" idx="2"/>
            </p:cNvCxnSpPr>
            <p:nvPr/>
          </p:nvCxnSpPr>
          <p:spPr>
            <a:xfrm flipV="1">
              <a:off x="72007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55" name="AutoShape 120"/>
            <p:cNvCxnSpPr>
              <a:endCxn id="553" idx="2"/>
            </p:cNvCxnSpPr>
            <p:nvPr/>
          </p:nvCxnSpPr>
          <p:spPr>
            <a:xfrm flipH="1" flipV="1">
              <a:off x="76575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56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557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59" name="AutoShape 124"/>
          <p:cNvCxnSpPr>
            <a:stCxn id="535" idx="0"/>
            <a:endCxn id="558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60" name="AutoShape 125"/>
          <p:cNvCxnSpPr>
            <a:stCxn id="541" idx="0"/>
            <a:endCxn id="558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61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562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563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64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65" name="AutoShape 130"/>
            <p:cNvCxnSpPr>
              <a:endCxn id="564" idx="2"/>
            </p:cNvCxnSpPr>
            <p:nvPr/>
          </p:nvCxnSpPr>
          <p:spPr>
            <a:xfrm flipV="1">
              <a:off x="582912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66" name="AutoShape 131"/>
            <p:cNvCxnSpPr>
              <a:endCxn id="564" idx="2"/>
            </p:cNvCxnSpPr>
            <p:nvPr/>
          </p:nvCxnSpPr>
          <p:spPr>
            <a:xfrm flipH="1" flipV="1">
              <a:off x="674316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567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568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70" name="AutoShape 135"/>
          <p:cNvCxnSpPr>
            <a:stCxn id="558" idx="0"/>
            <a:endCxn id="569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71" name="AutoShape 136"/>
          <p:cNvCxnSpPr>
            <a:stCxn id="564" idx="0"/>
            <a:endCxn id="569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72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Text Box 138"/>
          <p:cNvSpPr/>
          <p:nvPr/>
        </p:nvSpPr>
        <p:spPr>
          <a:xfrm>
            <a:off x="39960" y="4329000"/>
            <a:ext cx="9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Rectangle 140"/>
          <p:cNvSpPr/>
          <p:nvPr/>
        </p:nvSpPr>
        <p:spPr>
          <a:xfrm>
            <a:off x="125892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Rectangle 141"/>
          <p:cNvSpPr/>
          <p:nvPr/>
        </p:nvSpPr>
        <p:spPr>
          <a:xfrm>
            <a:off x="3132000" y="4365720"/>
            <a:ext cx="172728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Rectangle 142"/>
          <p:cNvSpPr/>
          <p:nvPr/>
        </p:nvSpPr>
        <p:spPr>
          <a:xfrm>
            <a:off x="493236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Rectangle 143"/>
          <p:cNvSpPr/>
          <p:nvPr/>
        </p:nvSpPr>
        <p:spPr>
          <a:xfrm>
            <a:off x="680400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Text Box 144"/>
          <p:cNvSpPr/>
          <p:nvPr/>
        </p:nvSpPr>
        <p:spPr>
          <a:xfrm>
            <a:off x="2030040" y="55022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Text Box 146"/>
          <p:cNvSpPr/>
          <p:nvPr/>
        </p:nvSpPr>
        <p:spPr>
          <a:xfrm>
            <a:off x="1127520" y="5857920"/>
            <a:ext cx="7521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80"/>
                </a:solidFill>
                <a:latin typeface="Comic Sans MS"/>
              </a:rPr>
              <a:t>N/M runs, each sorted in internal memory (no I/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Text Box 147"/>
          <p:cNvSpPr/>
          <p:nvPr/>
        </p:nvSpPr>
        <p:spPr>
          <a:xfrm>
            <a:off x="2571840" y="285768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Text Box 148"/>
          <p:cNvSpPr/>
          <p:nvPr/>
        </p:nvSpPr>
        <p:spPr>
          <a:xfrm>
            <a:off x="-411120" y="6318360"/>
            <a:ext cx="81633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— 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I/O-cost for binary merge-sort is  </a:t>
            </a:r>
            <a:r>
              <a:rPr b="0" lang="it-IT" sz="2400" spc="-1" strike="noStrike">
                <a:solidFill>
                  <a:srgbClr val="0000ff"/>
                </a:solidFill>
                <a:latin typeface="Lucida Sans"/>
              </a:rPr>
              <a:t>≈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2 (N/B) log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 (N/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2" name="Group 152"/>
          <p:cNvGrpSpPr/>
          <p:nvPr/>
        </p:nvGrpSpPr>
        <p:grpSpPr>
          <a:xfrm>
            <a:off x="214200" y="2282400"/>
            <a:ext cx="857520" cy="1787760"/>
            <a:chOff x="214200" y="2282400"/>
            <a:chExt cx="857520" cy="1787760"/>
          </a:xfrm>
        </p:grpSpPr>
        <p:sp>
          <p:nvSpPr>
            <p:cNvPr id="583" name="AutoShape 137"/>
            <p:cNvSpPr/>
            <p:nvPr/>
          </p:nvSpPr>
          <p:spPr>
            <a:xfrm>
              <a:off x="852840" y="2499840"/>
              <a:ext cx="218880" cy="15703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8960 h 1570320"/>
                <a:gd name="textAreaBottom" fmla="*/ 152136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Text Box 138"/>
            <p:cNvSpPr/>
            <p:nvPr/>
          </p:nvSpPr>
          <p:spPr>
            <a:xfrm rot="16200000">
              <a:off x="-378000" y="2874960"/>
              <a:ext cx="16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5" name="Text Box 147"/>
          <p:cNvSpPr/>
          <p:nvPr/>
        </p:nvSpPr>
        <p:spPr>
          <a:xfrm>
            <a:off x="2357280" y="357192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Text Box 147"/>
          <p:cNvSpPr/>
          <p:nvPr/>
        </p:nvSpPr>
        <p:spPr>
          <a:xfrm>
            <a:off x="5786280" y="3587760"/>
            <a:ext cx="185760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61"/>
          <p:cNvSpPr/>
          <p:nvPr/>
        </p:nvSpPr>
        <p:spPr>
          <a:xfrm>
            <a:off x="2286000" y="3714840"/>
            <a:ext cx="1285920" cy="500040"/>
          </a:xfrm>
          <a:prstGeom prst="rect">
            <a:avLst/>
          </a:prstGeom>
          <a:solidFill>
            <a:srgbClr val="d6e4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Text Box 146"/>
          <p:cNvSpPr/>
          <p:nvPr/>
        </p:nvSpPr>
        <p:spPr>
          <a:xfrm>
            <a:off x="276444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8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Rectangle 158"/>
          <p:cNvSpPr/>
          <p:nvPr/>
        </p:nvSpPr>
        <p:spPr>
          <a:xfrm>
            <a:off x="4643280" y="3714840"/>
            <a:ext cx="1143000" cy="500040"/>
          </a:xfrm>
          <a:prstGeom prst="rect">
            <a:avLst/>
          </a:prstGeom>
          <a:solidFill>
            <a:srgbClr val="d6e4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Rectangle 157"/>
          <p:cNvSpPr/>
          <p:nvPr/>
        </p:nvSpPr>
        <p:spPr>
          <a:xfrm>
            <a:off x="857160" y="3714840"/>
            <a:ext cx="1285920" cy="500040"/>
          </a:xfrm>
          <a:prstGeom prst="rect">
            <a:avLst/>
          </a:prstGeom>
          <a:solidFill>
            <a:srgbClr val="d6e4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key ineffici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Group 121"/>
          <p:cNvGrpSpPr/>
          <p:nvPr/>
        </p:nvGrpSpPr>
        <p:grpSpPr>
          <a:xfrm>
            <a:off x="1000080" y="3814920"/>
            <a:ext cx="3579840" cy="337320"/>
            <a:chOff x="1000080" y="3814920"/>
            <a:chExt cx="3579840" cy="337320"/>
          </a:xfrm>
        </p:grpSpPr>
        <p:sp>
          <p:nvSpPr>
            <p:cNvPr id="594" name="AutoShape 122"/>
            <p:cNvSpPr/>
            <p:nvPr/>
          </p:nvSpPr>
          <p:spPr>
            <a:xfrm>
              <a:off x="1000080" y="3858840"/>
              <a:ext cx="357984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5" name="Text Box 123"/>
            <p:cNvSpPr/>
            <p:nvPr/>
          </p:nvSpPr>
          <p:spPr>
            <a:xfrm>
              <a:off x="1000080" y="381492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4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96" name="AutoShape 124"/>
          <p:cNvCxnSpPr/>
          <p:nvPr/>
        </p:nvCxnSpPr>
        <p:spPr>
          <a:xfrm flipV="1">
            <a:off x="187632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97" name="AutoShape 125"/>
          <p:cNvCxnSpPr/>
          <p:nvPr/>
        </p:nvCxnSpPr>
        <p:spPr>
          <a:xfrm flipH="1" flipV="1">
            <a:off x="279036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98" name="Group 126"/>
          <p:cNvGrpSpPr/>
          <p:nvPr/>
        </p:nvGrpSpPr>
        <p:grpSpPr>
          <a:xfrm>
            <a:off x="4657680" y="3814920"/>
            <a:ext cx="3579840" cy="685800"/>
            <a:chOff x="4657680" y="3814920"/>
            <a:chExt cx="3579840" cy="685800"/>
          </a:xfrm>
        </p:grpSpPr>
        <p:grpSp>
          <p:nvGrpSpPr>
            <p:cNvPr id="599" name="Group 127"/>
            <p:cNvGrpSpPr/>
            <p:nvPr/>
          </p:nvGrpSpPr>
          <p:grpSpPr>
            <a:xfrm>
              <a:off x="4657680" y="3814920"/>
              <a:ext cx="3579840" cy="337320"/>
              <a:chOff x="4657680" y="3814920"/>
              <a:chExt cx="3579840" cy="337320"/>
            </a:xfrm>
          </p:grpSpPr>
          <p:sp>
            <p:nvSpPr>
              <p:cNvPr id="600" name="AutoShape 128"/>
              <p:cNvSpPr/>
              <p:nvPr/>
            </p:nvSpPr>
            <p:spPr>
              <a:xfrm>
                <a:off x="4657680" y="385920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01" name="Text Box 129"/>
              <p:cNvSpPr/>
              <p:nvPr/>
            </p:nvSpPr>
            <p:spPr>
              <a:xfrm>
                <a:off x="4657680" y="381492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5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602" name="AutoShape 130"/>
            <p:cNvCxnSpPr>
              <a:endCxn id="601" idx="2"/>
            </p:cNvCxnSpPr>
            <p:nvPr/>
          </p:nvCxnSpPr>
          <p:spPr>
            <a:xfrm flipV="1">
              <a:off x="553392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603" name="AutoShape 131"/>
            <p:cNvCxnSpPr>
              <a:endCxn id="601" idx="2"/>
            </p:cNvCxnSpPr>
            <p:nvPr/>
          </p:nvCxnSpPr>
          <p:spPr>
            <a:xfrm flipH="1" flipV="1">
              <a:off x="644796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604" name="Group 132"/>
          <p:cNvGrpSpPr/>
          <p:nvPr/>
        </p:nvGrpSpPr>
        <p:grpSpPr>
          <a:xfrm>
            <a:off x="1000080" y="3052800"/>
            <a:ext cx="7236000" cy="336600"/>
            <a:chOff x="1000080" y="3052800"/>
            <a:chExt cx="7236000" cy="336600"/>
          </a:xfrm>
        </p:grpSpPr>
        <p:sp>
          <p:nvSpPr>
            <p:cNvPr id="605" name="AutoShape 133"/>
            <p:cNvSpPr/>
            <p:nvPr/>
          </p:nvSpPr>
          <p:spPr>
            <a:xfrm>
              <a:off x="1000080" y="30970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6" name="Text Box 134"/>
            <p:cNvSpPr/>
            <p:nvPr/>
          </p:nvSpPr>
          <p:spPr>
            <a:xfrm>
              <a:off x="1000080" y="3052800"/>
              <a:ext cx="723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607" name="AutoShape 135"/>
          <p:cNvCxnSpPr/>
          <p:nvPr/>
        </p:nvCxnSpPr>
        <p:spPr>
          <a:xfrm flipV="1">
            <a:off x="279072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08" name="AutoShape 136"/>
          <p:cNvCxnSpPr/>
          <p:nvPr/>
        </p:nvCxnSpPr>
        <p:spPr>
          <a:xfrm flipH="1" flipV="1">
            <a:off x="461916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09" name="Text Box 146"/>
          <p:cNvSpPr/>
          <p:nvPr/>
        </p:nvSpPr>
        <p:spPr>
          <a:xfrm>
            <a:off x="133596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8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AutoShape 149"/>
          <p:cNvSpPr/>
          <p:nvPr/>
        </p:nvSpPr>
        <p:spPr>
          <a:xfrm>
            <a:off x="857160" y="1806480"/>
            <a:ext cx="7524720" cy="76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fter few steps, every run is longer than B !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Text Box 146"/>
          <p:cNvSpPr/>
          <p:nvPr/>
        </p:nvSpPr>
        <p:spPr>
          <a:xfrm>
            <a:off x="5072040" y="414324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8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AutoShape 149"/>
          <p:cNvSpPr/>
          <p:nvPr/>
        </p:nvSpPr>
        <p:spPr>
          <a:xfrm>
            <a:off x="2071800" y="5592600"/>
            <a:ext cx="6786360" cy="1051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We are using only 3 pag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ut memory contains M/B pages ≈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15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Text Box 146"/>
          <p:cNvSpPr/>
          <p:nvPr/>
        </p:nvSpPr>
        <p:spPr>
          <a:xfrm>
            <a:off x="1238400" y="543708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8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14" name="Group 171"/>
          <p:cNvGrpSpPr/>
          <p:nvPr/>
        </p:nvGrpSpPr>
        <p:grpSpPr>
          <a:xfrm>
            <a:off x="73080" y="4957920"/>
            <a:ext cx="1784160" cy="580680"/>
            <a:chOff x="73080" y="4957920"/>
            <a:chExt cx="1784160" cy="580680"/>
          </a:xfrm>
        </p:grpSpPr>
        <p:sp>
          <p:nvSpPr>
            <p:cNvPr id="615" name="Rectangle 165"/>
            <p:cNvSpPr/>
            <p:nvPr/>
          </p:nvSpPr>
          <p:spPr>
            <a:xfrm>
              <a:off x="928440" y="5000760"/>
              <a:ext cx="928800" cy="500040"/>
            </a:xfrm>
            <a:prstGeom prst="rect">
              <a:avLst/>
            </a:prstGeom>
            <a:solidFill>
              <a:srgbClr val="d6e4ea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6" name="Rectangle 167"/>
            <p:cNvSpPr/>
            <p:nvPr/>
          </p:nvSpPr>
          <p:spPr>
            <a:xfrm>
              <a:off x="73080" y="4957920"/>
              <a:ext cx="8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17" name="Group 170"/>
          <p:cNvGrpSpPr/>
          <p:nvPr/>
        </p:nvGrpSpPr>
        <p:grpSpPr>
          <a:xfrm>
            <a:off x="2357280" y="4987800"/>
            <a:ext cx="1537920" cy="520560"/>
            <a:chOff x="2357280" y="4987800"/>
            <a:chExt cx="1537920" cy="520560"/>
          </a:xfrm>
        </p:grpSpPr>
        <p:sp>
          <p:nvSpPr>
            <p:cNvPr id="618" name="Right Arrow 168"/>
            <p:cNvSpPr/>
            <p:nvPr/>
          </p:nvSpPr>
          <p:spPr>
            <a:xfrm>
              <a:off x="2357280" y="5072400"/>
              <a:ext cx="642600" cy="356760"/>
            </a:xfrm>
            <a:prstGeom prst="rightArrow">
              <a:avLst>
                <a:gd name="adj1" fmla="val 50000"/>
                <a:gd name="adj2" fmla="val 5003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9" name="Rectangle 169"/>
            <p:cNvSpPr/>
            <p:nvPr/>
          </p:nvSpPr>
          <p:spPr>
            <a:xfrm>
              <a:off x="3004200" y="4987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0" name="Rectangle 176"/>
          <p:cNvSpPr/>
          <p:nvPr/>
        </p:nvSpPr>
        <p:spPr>
          <a:xfrm>
            <a:off x="1000080" y="3000240"/>
            <a:ext cx="928800" cy="500040"/>
          </a:xfrm>
          <a:prstGeom prst="rect">
            <a:avLst/>
          </a:prstGeom>
          <a:solidFill>
            <a:srgbClr val="d6e4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Rectangle 178"/>
          <p:cNvSpPr/>
          <p:nvPr/>
        </p:nvSpPr>
        <p:spPr>
          <a:xfrm>
            <a:off x="928800" y="5000760"/>
            <a:ext cx="1052280" cy="500040"/>
          </a:xfrm>
          <a:prstGeom prst="rect">
            <a:avLst/>
          </a:prstGeom>
          <a:solidFill>
            <a:srgbClr val="d6e4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2" name="Group 191"/>
          <p:cNvGrpSpPr/>
          <p:nvPr/>
        </p:nvGrpSpPr>
        <p:grpSpPr>
          <a:xfrm>
            <a:off x="1071000" y="3857760"/>
            <a:ext cx="3857760" cy="285480"/>
            <a:chOff x="1071000" y="3857760"/>
            <a:chExt cx="3857760" cy="285480"/>
          </a:xfrm>
        </p:grpSpPr>
        <p:grpSp>
          <p:nvGrpSpPr>
            <p:cNvPr id="623" name="Group 184"/>
            <p:cNvGrpSpPr/>
            <p:nvPr/>
          </p:nvGrpSpPr>
          <p:grpSpPr>
            <a:xfrm>
              <a:off x="1071000" y="3857760"/>
              <a:ext cx="214560" cy="285480"/>
              <a:chOff x="1071000" y="3857760"/>
              <a:chExt cx="214560" cy="285480"/>
            </a:xfrm>
          </p:grpSpPr>
          <p:sp>
            <p:nvSpPr>
              <p:cNvPr id="624" name="Straight Connector 180"/>
              <p:cNvSpPr/>
              <p:nvPr/>
            </p:nvSpPr>
            <p:spPr>
              <a:xfrm flipH="1">
                <a:off x="10713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5" name="Straight Connector 181"/>
              <p:cNvSpPr/>
              <p:nvPr/>
            </p:nvSpPr>
            <p:spPr>
              <a:xfrm>
                <a:off x="10710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26" name="Group 185"/>
            <p:cNvGrpSpPr/>
            <p:nvPr/>
          </p:nvGrpSpPr>
          <p:grpSpPr>
            <a:xfrm>
              <a:off x="4714200" y="3857760"/>
              <a:ext cx="214560" cy="285480"/>
              <a:chOff x="4714200" y="3857760"/>
              <a:chExt cx="214560" cy="285480"/>
            </a:xfrm>
          </p:grpSpPr>
          <p:sp>
            <p:nvSpPr>
              <p:cNvPr id="627" name="Straight Connector 186"/>
              <p:cNvSpPr/>
              <p:nvPr/>
            </p:nvSpPr>
            <p:spPr>
              <a:xfrm flipH="1">
                <a:off x="47145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28" name="Straight Connector 187"/>
              <p:cNvSpPr/>
              <p:nvPr/>
            </p:nvSpPr>
            <p:spPr>
              <a:xfrm>
                <a:off x="47142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29" name="Group 188"/>
            <p:cNvGrpSpPr/>
            <p:nvPr/>
          </p:nvGrpSpPr>
          <p:grpSpPr>
            <a:xfrm>
              <a:off x="1499400" y="3857760"/>
              <a:ext cx="214560" cy="285480"/>
              <a:chOff x="1499400" y="3857760"/>
              <a:chExt cx="214560" cy="285480"/>
            </a:xfrm>
          </p:grpSpPr>
          <p:sp>
            <p:nvSpPr>
              <p:cNvPr id="630" name="Straight Connector 189"/>
              <p:cNvSpPr/>
              <p:nvPr/>
            </p:nvSpPr>
            <p:spPr>
              <a:xfrm flipH="1">
                <a:off x="14997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1" name="Straight Connector 190"/>
              <p:cNvSpPr/>
              <p:nvPr/>
            </p:nvSpPr>
            <p:spPr>
              <a:xfrm>
                <a:off x="14994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632" name="Rectangle 192"/>
          <p:cNvSpPr/>
          <p:nvPr/>
        </p:nvSpPr>
        <p:spPr>
          <a:xfrm>
            <a:off x="73080" y="29764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3" name="Group 195"/>
          <p:cNvGrpSpPr/>
          <p:nvPr/>
        </p:nvGrpSpPr>
        <p:grpSpPr>
          <a:xfrm>
            <a:off x="1928160" y="3857760"/>
            <a:ext cx="214560" cy="285480"/>
            <a:chOff x="1928160" y="3857760"/>
            <a:chExt cx="214560" cy="285480"/>
          </a:xfrm>
        </p:grpSpPr>
        <p:sp>
          <p:nvSpPr>
            <p:cNvPr id="634" name="Straight Connector 193"/>
            <p:cNvSpPr/>
            <p:nvPr/>
          </p:nvSpPr>
          <p:spPr>
            <a:xfrm>
              <a:off x="192816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Straight Connector 194"/>
            <p:cNvSpPr/>
            <p:nvPr/>
          </p:nvSpPr>
          <p:spPr>
            <a:xfrm flipH="1">
              <a:off x="192852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6" name="Rectangle 173"/>
          <p:cNvSpPr/>
          <p:nvPr/>
        </p:nvSpPr>
        <p:spPr>
          <a:xfrm>
            <a:off x="928800" y="5029200"/>
            <a:ext cx="1052280" cy="500040"/>
          </a:xfrm>
          <a:prstGeom prst="rect">
            <a:avLst/>
          </a:prstGeom>
          <a:solidFill>
            <a:srgbClr val="d6e4e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,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rt 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tems with main-memory </a:t>
            </a:r>
            <a:r>
              <a:rPr b="0" lang="en-US" sz="2200" spc="-1" strike="noStrike">
                <a:solidFill>
                  <a:srgbClr val="800080"/>
                </a:solidFill>
                <a:latin typeface="Calibri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disk-pages </a:t>
            </a:r>
            <a:r>
              <a:rPr b="0" lang="en-US" sz="22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357e69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Calibri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Calibri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g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X = </a:t>
            </a:r>
            <a:r>
              <a:rPr b="0" i="1" lang="en-US" sz="2400" spc="-1" strike="noStrike">
                <a:solidFill>
                  <a:srgbClr val="0000ff"/>
                </a:solidFill>
                <a:latin typeface="Calibri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log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1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2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Bookman Old Style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Bookman Old Style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Bookman Old Style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660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2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663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65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Bookman Old Style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spcAft>
                <a:spcPts val="1225"/>
              </a:spcAft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passes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/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/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N/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I/O-cost is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( (N/B) 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Calibri"/>
              </a:rPr>
              <a:t>M/B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 N/M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/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324000" y="57340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Lucida Sans"/>
              </a:rPr>
              <a:t>Large fan-out (M/B) decreases #p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539640" y="3627360"/>
            <a:ext cx="83534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Lucida Sans"/>
              </a:rPr>
              <a:t>In practi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/B ≈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Lucida Sans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m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AutoShape 8"/>
          <p:cNvSpPr/>
          <p:nvPr/>
        </p:nvSpPr>
        <p:spPr>
          <a:xfrm>
            <a:off x="5555880" y="4563720"/>
            <a:ext cx="3944160" cy="1529640"/>
          </a:xfrm>
          <a:custGeom>
            <a:avLst/>
            <a:gdLst>
              <a:gd name="textAreaLeft" fmla="*/ 719640 w 3944160"/>
              <a:gd name="textAreaRight" fmla="*/ 3224520 w 3944160"/>
              <a:gd name="textAreaTop" fmla="*/ 279000 h 1529640"/>
              <a:gd name="textAreaBottom" fmla="*/ 1250640 h 152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ning dep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n disk featu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324000" y="62848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Lucida Sans"/>
              </a:rPr>
              <a:t>Compression would decrease the cost of a pass!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Keep attention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rbitrarily lo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t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ay A is an “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array of 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pointers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to objec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800080"/>
                </a:solidFill>
                <a:latin typeface="Calibri"/>
              </a:rPr>
              <a:t>(n log n) </a:t>
            </a:r>
            <a:r>
              <a:rPr b="1" lang="en-US" sz="1600" spc="-1" strike="noStrike">
                <a:solidFill>
                  <a:srgbClr val="800080"/>
                </a:solidFill>
                <a:latin typeface="Calibri"/>
              </a:rPr>
              <a:t>random</a:t>
            </a:r>
            <a:r>
              <a:rPr b="0" lang="en-US" sz="1600" spc="-1" strike="noStrike">
                <a:solidFill>
                  <a:srgbClr val="800080"/>
                </a:solidFill>
                <a:latin typeface="Calibri"/>
              </a:rPr>
              <a:t> memory accesses (I/Os ??)</a:t>
            </a:r>
            <a:r>
              <a:rPr b="1" lang="en-US" sz="16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92" name="Gruppo 35"/>
          <p:cNvGrpSpPr/>
          <p:nvPr/>
        </p:nvGrpSpPr>
        <p:grpSpPr>
          <a:xfrm>
            <a:off x="1937520" y="2857680"/>
            <a:ext cx="6371280" cy="964440"/>
            <a:chOff x="1937520" y="2857680"/>
            <a:chExt cx="6371280" cy="964440"/>
          </a:xfrm>
        </p:grpSpPr>
        <p:sp>
          <p:nvSpPr>
            <p:cNvPr id="693" name="Rectangle 5"/>
            <p:cNvSpPr/>
            <p:nvPr/>
          </p:nvSpPr>
          <p:spPr>
            <a:xfrm>
              <a:off x="625320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3510000" y="285768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5" name="Rectangle 7"/>
            <p:cNvSpPr/>
            <p:nvPr/>
          </p:nvSpPr>
          <p:spPr>
            <a:xfrm>
              <a:off x="3500280" y="286560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6" name="Line 8"/>
            <p:cNvSpPr/>
            <p:nvPr/>
          </p:nvSpPr>
          <p:spPr>
            <a:xfrm>
              <a:off x="35100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7" name="Line 9"/>
            <p:cNvSpPr/>
            <p:nvPr/>
          </p:nvSpPr>
          <p:spPr>
            <a:xfrm>
              <a:off x="48816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8" name="Line 10"/>
            <p:cNvSpPr/>
            <p:nvPr/>
          </p:nvSpPr>
          <p:spPr>
            <a:xfrm>
              <a:off x="62532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9" name="Line 11"/>
            <p:cNvSpPr/>
            <p:nvPr/>
          </p:nvSpPr>
          <p:spPr>
            <a:xfrm>
              <a:off x="419580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0" name="Line 12"/>
            <p:cNvSpPr/>
            <p:nvPr/>
          </p:nvSpPr>
          <p:spPr>
            <a:xfrm>
              <a:off x="385920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1" name="Rectangle 13"/>
            <p:cNvSpPr/>
            <p:nvPr/>
          </p:nvSpPr>
          <p:spPr>
            <a:xfrm>
              <a:off x="488160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2" name="Line 14"/>
            <p:cNvSpPr/>
            <p:nvPr/>
          </p:nvSpPr>
          <p:spPr>
            <a:xfrm>
              <a:off x="526248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3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4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5" name="Line 17"/>
            <p:cNvSpPr/>
            <p:nvPr/>
          </p:nvSpPr>
          <p:spPr>
            <a:xfrm>
              <a:off x="785016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6" name="Line 18"/>
            <p:cNvSpPr/>
            <p:nvPr/>
          </p:nvSpPr>
          <p:spPr>
            <a:xfrm>
              <a:off x="751356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7" name="Text Box 19"/>
            <p:cNvSpPr/>
            <p:nvPr/>
          </p:nvSpPr>
          <p:spPr>
            <a:xfrm>
              <a:off x="5269680" y="307188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8" name="Rectangle 20"/>
            <p:cNvSpPr/>
            <p:nvPr/>
          </p:nvSpPr>
          <p:spPr>
            <a:xfrm>
              <a:off x="2360520" y="3507120"/>
              <a:ext cx="324000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9" name="Line 21"/>
            <p:cNvSpPr/>
            <p:nvPr/>
          </p:nvSpPr>
          <p:spPr>
            <a:xfrm>
              <a:off x="23698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0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1" name="Line 23"/>
            <p:cNvSpPr/>
            <p:nvPr/>
          </p:nvSpPr>
          <p:spPr>
            <a:xfrm>
              <a:off x="511344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2" name="Line 24"/>
            <p:cNvSpPr/>
            <p:nvPr/>
          </p:nvSpPr>
          <p:spPr>
            <a:xfrm>
              <a:off x="30556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3" name="Line 25"/>
            <p:cNvSpPr/>
            <p:nvPr/>
          </p:nvSpPr>
          <p:spPr>
            <a:xfrm>
              <a:off x="271944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4" name="Line 26"/>
            <p:cNvSpPr/>
            <p:nvPr/>
          </p:nvSpPr>
          <p:spPr>
            <a:xfrm>
              <a:off x="41227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5" name="Line 27"/>
            <p:cNvSpPr/>
            <p:nvPr/>
          </p:nvSpPr>
          <p:spPr>
            <a:xfrm>
              <a:off x="479268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6" name="AutoShape 28"/>
            <p:cNvSpPr/>
            <p:nvPr/>
          </p:nvSpPr>
          <p:spPr>
            <a:xfrm rot="16200000">
              <a:off x="5432400" y="3452760"/>
              <a:ext cx="236520" cy="331560"/>
            </a:xfrm>
            <a:prstGeom prst="flowChartPunchedTape">
              <a:avLst/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7" name="Line 29"/>
            <p:cNvSpPr/>
            <p:nvPr/>
          </p:nvSpPr>
          <p:spPr>
            <a:xfrm>
              <a:off x="3368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8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9" name="Text Box 31"/>
            <p:cNvSpPr/>
            <p:nvPr/>
          </p:nvSpPr>
          <p:spPr>
            <a:xfrm>
              <a:off x="193752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0" name="Freeform 32"/>
            <p:cNvSpPr/>
            <p:nvPr/>
          </p:nvSpPr>
          <p:spPr>
            <a:xfrm>
              <a:off x="250488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1" name="Freeform 33"/>
            <p:cNvSpPr/>
            <p:nvPr/>
          </p:nvSpPr>
          <p:spPr>
            <a:xfrm>
              <a:off x="394488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2" name="Freeform 34"/>
            <p:cNvSpPr/>
            <p:nvPr/>
          </p:nvSpPr>
          <p:spPr>
            <a:xfrm flipH="1">
              <a:off x="430524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3" name="Freeform 35"/>
            <p:cNvSpPr/>
            <p:nvPr/>
          </p:nvSpPr>
          <p:spPr>
            <a:xfrm>
              <a:off x="315252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24" name="Rettangolo arrotondato 36"/>
          <p:cNvSpPr/>
          <p:nvPr/>
        </p:nvSpPr>
        <p:spPr>
          <a:xfrm>
            <a:off x="4572000" y="6165720"/>
            <a:ext cx="4572000" cy="6922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haching helps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But it may be less effective than befor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Rettangolo arrotondato 37"/>
          <p:cNvSpPr/>
          <p:nvPr/>
        </p:nvSpPr>
        <p:spPr>
          <a:xfrm>
            <a:off x="6143760" y="342900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direct sor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dea #1: Generate separate dictionaries for each bl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dea #2: Don’t sort. Accumulate postings in postings lists as they occ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se two ideas we can generate a complete inverted index for each bl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eparate indexes can then be merged into one big ind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y append with 1 file per posting (docID are increasing among blocks), otherwise emulate multi-way me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erging of blocks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BSBI (now dictionary-driv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73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x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we construct an index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strategies can we use with limited main memor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dynamic text collectio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764748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Ch. 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MI: Compre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ion makes SPIMI even more effic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ion of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ion of pos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next le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web-scale index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use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uting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machines are fault-p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exploit such a pool of machin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ogle data cen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data centers mainly contain commodity mach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enters are distributed around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: Google install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0,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rs each quar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expenditures of 200–250 million dollars per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10% of the computing capacity of the world !?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s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chine directing the indexing job – considered “saf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up indexing into sets of (parallel) ta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machine assigns tasks to idle mach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ill use two sets of parallel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the input document collection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p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plit is a subset of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1371600" y="4114800"/>
            <a:ext cx="6934320" cy="2666880"/>
          </a:xfrm>
          <a:prstGeom prst="rect">
            <a:avLst/>
          </a:pr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buClr>
                <a:srgbClr val="fdea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deada"/>
                </a:solidFill>
                <a:latin typeface="Calibri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deada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e machine handles a subrange of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lnSpc>
                <a:spcPct val="100000"/>
              </a:lnSpc>
              <a:buClr>
                <a:srgbClr val="fdea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deada"/>
                </a:solidFill>
                <a:latin typeface="Calibri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e machine handles a subrange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flow: doc-based partitio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492840" y="457200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Oval 15"/>
          <p:cNvSpPr/>
          <p:nvPr/>
        </p:nvSpPr>
        <p:spPr>
          <a:xfrm>
            <a:off x="1924200" y="268416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Oval 17"/>
          <p:cNvSpPr/>
          <p:nvPr/>
        </p:nvSpPr>
        <p:spPr>
          <a:xfrm>
            <a:off x="1930320" y="348120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1" name="Oval 18"/>
          <p:cNvSpPr/>
          <p:nvPr/>
        </p:nvSpPr>
        <p:spPr>
          <a:xfrm>
            <a:off x="1914480" y="477648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2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65" name="AutoShape 22"/>
          <p:cNvCxnSpPr>
            <a:stCxn id="750" idx="3"/>
            <a:endCxn id="759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6" name="AutoShape 23"/>
          <p:cNvCxnSpPr>
            <a:stCxn id="751" idx="3"/>
            <a:endCxn id="761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" name="AutoShape 24"/>
          <p:cNvCxnSpPr>
            <a:stCxn id="753" idx="3"/>
            <a:endCxn id="760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AutoShape 25"/>
          <p:cNvSpPr/>
          <p:nvPr/>
        </p:nvSpPr>
        <p:spPr>
          <a:xfrm>
            <a:off x="3670560" y="1682640"/>
            <a:ext cx="123156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72" name="AutoShape 38"/>
          <p:cNvCxnSpPr>
            <a:stCxn id="759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39"/>
          <p:cNvCxnSpPr>
            <a:stCxn id="760" idx="6"/>
            <a:endCxn id="774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40"/>
          <p:cNvCxnSpPr>
            <a:stCxn id="761" idx="6"/>
            <a:endCxn id="776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7" name="Oval 41"/>
          <p:cNvSpPr/>
          <p:nvPr/>
        </p:nvSpPr>
        <p:spPr>
          <a:xfrm>
            <a:off x="6184440" y="268416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Oval 42"/>
          <p:cNvSpPr/>
          <p:nvPr/>
        </p:nvSpPr>
        <p:spPr>
          <a:xfrm>
            <a:off x="6208200" y="363348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6" name="Oval 43"/>
          <p:cNvSpPr/>
          <p:nvPr/>
        </p:nvSpPr>
        <p:spPr>
          <a:xfrm>
            <a:off x="6208200" y="454788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0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1" name="Text Box 54"/>
          <p:cNvSpPr/>
          <p:nvPr/>
        </p:nvSpPr>
        <p:spPr>
          <a:xfrm>
            <a:off x="7687080" y="1944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2" name="AutoShape 55"/>
          <p:cNvCxnSpPr>
            <a:stCxn id="777" idx="6"/>
            <a:endCxn id="778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3" name="Text Box 56"/>
          <p:cNvSpPr/>
          <p:nvPr/>
        </p:nvSpPr>
        <p:spPr>
          <a:xfrm>
            <a:off x="8310240" y="2819520"/>
            <a:ext cx="54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5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7" name="AutoShape 62"/>
          <p:cNvCxnSpPr>
            <a:stCxn id="774" idx="6"/>
            <a:endCxn id="779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AutoShape 63"/>
          <p:cNvCxnSpPr>
            <a:stCxn id="776" idx="6"/>
            <a:endCxn id="780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0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1" name="Text Box 69"/>
          <p:cNvSpPr/>
          <p:nvPr/>
        </p:nvSpPr>
        <p:spPr>
          <a:xfrm>
            <a:off x="2370960" y="17524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2" name="Text Box 70"/>
          <p:cNvSpPr/>
          <p:nvPr/>
        </p:nvSpPr>
        <p:spPr>
          <a:xfrm>
            <a:off x="5647320" y="17524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Text Box 56"/>
          <p:cNvSpPr/>
          <p:nvPr/>
        </p:nvSpPr>
        <p:spPr>
          <a:xfrm>
            <a:off x="8316720" y="3805200"/>
            <a:ext cx="54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Text Box 56"/>
          <p:cNvSpPr/>
          <p:nvPr/>
        </p:nvSpPr>
        <p:spPr>
          <a:xfrm>
            <a:off x="8378640" y="4719600"/>
            <a:ext cx="53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6" name="Text Box 56"/>
          <p:cNvSpPr/>
          <p:nvPr/>
        </p:nvSpPr>
        <p:spPr>
          <a:xfrm>
            <a:off x="703800" y="2362320"/>
            <a:ext cx="73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7" name="Text Box 56"/>
          <p:cNvSpPr/>
          <p:nvPr/>
        </p:nvSpPr>
        <p:spPr>
          <a:xfrm>
            <a:off x="627480" y="2967120"/>
            <a:ext cx="73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Text Box 56"/>
          <p:cNvSpPr/>
          <p:nvPr/>
        </p:nvSpPr>
        <p:spPr>
          <a:xfrm>
            <a:off x="702000" y="532908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TextBox 72"/>
          <p:cNvSpPr/>
          <p:nvPr/>
        </p:nvSpPr>
        <p:spPr>
          <a:xfrm>
            <a:off x="2799000" y="6095880"/>
            <a:ext cx="61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Query must be also distribute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4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92840" y="457200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9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Oval 15"/>
          <p:cNvSpPr/>
          <p:nvPr/>
        </p:nvSpPr>
        <p:spPr>
          <a:xfrm>
            <a:off x="1924200" y="268416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Oval 17"/>
          <p:cNvSpPr/>
          <p:nvPr/>
        </p:nvSpPr>
        <p:spPr>
          <a:xfrm>
            <a:off x="1930320" y="348120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2" name="Oval 18"/>
          <p:cNvSpPr/>
          <p:nvPr/>
        </p:nvSpPr>
        <p:spPr>
          <a:xfrm>
            <a:off x="1914480" y="477648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3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16" name="AutoShape 22"/>
          <p:cNvCxnSpPr>
            <a:stCxn id="801" idx="3"/>
            <a:endCxn id="810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23"/>
          <p:cNvCxnSpPr>
            <a:stCxn id="802" idx="3"/>
            <a:endCxn id="812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8" name="AutoShape 24"/>
          <p:cNvCxnSpPr>
            <a:stCxn id="804" idx="3"/>
            <a:endCxn id="811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9" name="AutoShape 25"/>
          <p:cNvSpPr/>
          <p:nvPr/>
        </p:nvSpPr>
        <p:spPr>
          <a:xfrm>
            <a:off x="3670560" y="1682640"/>
            <a:ext cx="123156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Rectangle 26"/>
          <p:cNvSpPr/>
          <p:nvPr/>
        </p:nvSpPr>
        <p:spPr>
          <a:xfrm>
            <a:off x="4053960" y="2746440"/>
            <a:ext cx="55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1" name="Rectangle 27"/>
          <p:cNvSpPr/>
          <p:nvPr/>
        </p:nvSpPr>
        <p:spPr>
          <a:xfrm>
            <a:off x="4597920" y="2746440"/>
            <a:ext cx="6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5253840" y="2746440"/>
            <a:ext cx="60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Rectangle 29"/>
          <p:cNvSpPr/>
          <p:nvPr/>
        </p:nvSpPr>
        <p:spPr>
          <a:xfrm>
            <a:off x="4069800" y="3575160"/>
            <a:ext cx="55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4613760" y="3575160"/>
            <a:ext cx="6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53840" y="3575160"/>
            <a:ext cx="60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Rectangle 32"/>
          <p:cNvSpPr/>
          <p:nvPr/>
        </p:nvSpPr>
        <p:spPr>
          <a:xfrm>
            <a:off x="4069800" y="4870800"/>
            <a:ext cx="55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Rectangle 33"/>
          <p:cNvSpPr/>
          <p:nvPr/>
        </p:nvSpPr>
        <p:spPr>
          <a:xfrm>
            <a:off x="4613760" y="4870800"/>
            <a:ext cx="6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8" name="Rectangle 34"/>
          <p:cNvSpPr/>
          <p:nvPr/>
        </p:nvSpPr>
        <p:spPr>
          <a:xfrm>
            <a:off x="5253840" y="4870800"/>
            <a:ext cx="60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32" name="AutoShape 38"/>
          <p:cNvCxnSpPr>
            <a:stCxn id="810" idx="6"/>
            <a:endCxn id="820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3" name="AutoShape 39"/>
          <p:cNvCxnSpPr>
            <a:stCxn id="811" idx="6"/>
            <a:endCxn id="823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AutoShape 40"/>
          <p:cNvCxnSpPr>
            <a:stCxn id="812" idx="6"/>
            <a:endCxn id="826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5" name="Oval 41"/>
          <p:cNvSpPr/>
          <p:nvPr/>
        </p:nvSpPr>
        <p:spPr>
          <a:xfrm>
            <a:off x="6184440" y="268416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6" name="Oval 42"/>
          <p:cNvSpPr/>
          <p:nvPr/>
        </p:nvSpPr>
        <p:spPr>
          <a:xfrm>
            <a:off x="6208200" y="363348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7" name="Oval 43"/>
          <p:cNvSpPr/>
          <p:nvPr/>
        </p:nvSpPr>
        <p:spPr>
          <a:xfrm>
            <a:off x="6208200" y="454788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38" name="AutoShape 46"/>
          <p:cNvCxnSpPr>
            <a:stCxn id="820" idx="0"/>
            <a:endCxn id="835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47"/>
          <p:cNvCxnSpPr>
            <a:stCxn id="823" idx="0"/>
            <a:endCxn id="835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50"/>
          <p:cNvCxnSpPr>
            <a:stCxn id="826" idx="0"/>
            <a:endCxn id="835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2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3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4" name="Text Box 54"/>
          <p:cNvSpPr/>
          <p:nvPr/>
        </p:nvSpPr>
        <p:spPr>
          <a:xfrm>
            <a:off x="7687080" y="1944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45" name="AutoShape 55"/>
          <p:cNvCxnSpPr>
            <a:stCxn id="835" idx="6"/>
            <a:endCxn id="841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Text Box 56"/>
          <p:cNvSpPr/>
          <p:nvPr/>
        </p:nvSpPr>
        <p:spPr>
          <a:xfrm>
            <a:off x="8292240" y="2819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7" name="Text Box 57"/>
          <p:cNvSpPr/>
          <p:nvPr/>
        </p:nvSpPr>
        <p:spPr>
          <a:xfrm>
            <a:off x="8285760" y="38098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8" name="Text Box 58"/>
          <p:cNvSpPr/>
          <p:nvPr/>
        </p:nvSpPr>
        <p:spPr>
          <a:xfrm>
            <a:off x="8289360" y="464832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52" name="AutoShape 62"/>
          <p:cNvCxnSpPr>
            <a:stCxn id="836" idx="6"/>
            <a:endCxn id="842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AutoShape 63"/>
          <p:cNvCxnSpPr>
            <a:stCxn id="837" idx="6"/>
            <a:endCxn id="843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Text Box 69"/>
          <p:cNvSpPr/>
          <p:nvPr/>
        </p:nvSpPr>
        <p:spPr>
          <a:xfrm>
            <a:off x="2370960" y="17524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Text Box 70"/>
          <p:cNvSpPr/>
          <p:nvPr/>
        </p:nvSpPr>
        <p:spPr>
          <a:xfrm>
            <a:off x="5647320" y="17524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Text Box 56"/>
          <p:cNvSpPr/>
          <p:nvPr/>
        </p:nvSpPr>
        <p:spPr>
          <a:xfrm>
            <a:off x="703800" y="2362320"/>
            <a:ext cx="73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Text Box 56"/>
          <p:cNvSpPr/>
          <p:nvPr/>
        </p:nvSpPr>
        <p:spPr>
          <a:xfrm>
            <a:off x="627480" y="2967120"/>
            <a:ext cx="73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Text Box 56"/>
          <p:cNvSpPr/>
          <p:nvPr/>
        </p:nvSpPr>
        <p:spPr>
          <a:xfrm>
            <a:off x="702000" y="532908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s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assigns a split to an idle parser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ser reads a document at a time and emits (term, doc)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ser writes pairs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artition is for a range of terms’ first 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.g.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-f, g-p, q-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erter collects all (term,doc) pairs (= postings) for one term-part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ts and writes to postings 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 construction is an instance of MapRe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indexing system (ca. 2002) consists of a number of phases, each implemented in MapRedu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ll hardware ba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k I/O is block-based: Reading and writing of entire blocks (as opposed to smaller chun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sizes: 8KB to 256 K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s used in IR systems now typically have several GB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mem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metimes tens of G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sk spa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everal (2–3) orders of magnitude lar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ault toler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very expensive: It’s much cheaper to use many regular machines rather than one fault tolerant mach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3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2" name="Text Box 12"/>
          <p:cNvSpPr/>
          <p:nvPr/>
        </p:nvSpPr>
        <p:spPr>
          <a:xfrm>
            <a:off x="492840" y="457200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4" name="Oval 15"/>
          <p:cNvSpPr/>
          <p:nvPr/>
        </p:nvSpPr>
        <p:spPr>
          <a:xfrm>
            <a:off x="1924200" y="268416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5" name="Oval 17"/>
          <p:cNvSpPr/>
          <p:nvPr/>
        </p:nvSpPr>
        <p:spPr>
          <a:xfrm>
            <a:off x="1930320" y="348120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6" name="Oval 18"/>
          <p:cNvSpPr/>
          <p:nvPr/>
        </p:nvSpPr>
        <p:spPr>
          <a:xfrm>
            <a:off x="1914480" y="4776480"/>
            <a:ext cx="156528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90" name="AutoShape 22"/>
          <p:cNvCxnSpPr>
            <a:stCxn id="875" idx="3"/>
            <a:endCxn id="88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1" name="AutoShape 23"/>
          <p:cNvCxnSpPr>
            <a:stCxn id="876" idx="3"/>
            <a:endCxn id="88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2" name="AutoShape 24"/>
          <p:cNvCxnSpPr>
            <a:stCxn id="878" idx="3"/>
            <a:endCxn id="88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AutoShape 25"/>
          <p:cNvSpPr/>
          <p:nvPr/>
        </p:nvSpPr>
        <p:spPr>
          <a:xfrm>
            <a:off x="3670560" y="1682640"/>
            <a:ext cx="123156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4" name="Rectangle 26"/>
          <p:cNvSpPr/>
          <p:nvPr/>
        </p:nvSpPr>
        <p:spPr>
          <a:xfrm>
            <a:off x="4053960" y="2746440"/>
            <a:ext cx="55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Rectangle 27"/>
          <p:cNvSpPr/>
          <p:nvPr/>
        </p:nvSpPr>
        <p:spPr>
          <a:xfrm>
            <a:off x="4597920" y="2746440"/>
            <a:ext cx="6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Rectangle 28"/>
          <p:cNvSpPr/>
          <p:nvPr/>
        </p:nvSpPr>
        <p:spPr>
          <a:xfrm>
            <a:off x="5253840" y="2746440"/>
            <a:ext cx="60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Rectangle 29"/>
          <p:cNvSpPr/>
          <p:nvPr/>
        </p:nvSpPr>
        <p:spPr>
          <a:xfrm>
            <a:off x="4069800" y="3575160"/>
            <a:ext cx="55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Rectangle 30"/>
          <p:cNvSpPr/>
          <p:nvPr/>
        </p:nvSpPr>
        <p:spPr>
          <a:xfrm>
            <a:off x="4613760" y="3575160"/>
            <a:ext cx="6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9" name="Rectangle 31"/>
          <p:cNvSpPr/>
          <p:nvPr/>
        </p:nvSpPr>
        <p:spPr>
          <a:xfrm>
            <a:off x="5253840" y="3575160"/>
            <a:ext cx="60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Rectangle 32"/>
          <p:cNvSpPr/>
          <p:nvPr/>
        </p:nvSpPr>
        <p:spPr>
          <a:xfrm>
            <a:off x="4069800" y="4870800"/>
            <a:ext cx="554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Rectangle 33"/>
          <p:cNvSpPr/>
          <p:nvPr/>
        </p:nvSpPr>
        <p:spPr>
          <a:xfrm>
            <a:off x="4613760" y="4870800"/>
            <a:ext cx="6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Rectangle 34"/>
          <p:cNvSpPr/>
          <p:nvPr/>
        </p:nvSpPr>
        <p:spPr>
          <a:xfrm>
            <a:off x="5253840" y="4870800"/>
            <a:ext cx="60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5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06" name="AutoShape 38"/>
          <p:cNvCxnSpPr>
            <a:stCxn id="884" idx="6"/>
            <a:endCxn id="894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7" name="AutoShape 39"/>
          <p:cNvCxnSpPr>
            <a:stCxn id="885" idx="6"/>
            <a:endCxn id="897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AutoShape 40"/>
          <p:cNvCxnSpPr>
            <a:stCxn id="886" idx="6"/>
            <a:endCxn id="900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Oval 41"/>
          <p:cNvSpPr/>
          <p:nvPr/>
        </p:nvSpPr>
        <p:spPr>
          <a:xfrm>
            <a:off x="6184440" y="268416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0" name="Oval 42"/>
          <p:cNvSpPr/>
          <p:nvPr/>
        </p:nvSpPr>
        <p:spPr>
          <a:xfrm>
            <a:off x="6208200" y="363348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1" name="Oval 43"/>
          <p:cNvSpPr/>
          <p:nvPr/>
        </p:nvSpPr>
        <p:spPr>
          <a:xfrm>
            <a:off x="6208200" y="4547880"/>
            <a:ext cx="1888920" cy="64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er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12" name="AutoShape 46"/>
          <p:cNvCxnSpPr>
            <a:stCxn id="894" idx="0"/>
            <a:endCxn id="909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3" name="AutoShape 47"/>
          <p:cNvCxnSpPr>
            <a:stCxn id="897" idx="0"/>
            <a:endCxn id="909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4" name="AutoShape 50"/>
          <p:cNvCxnSpPr>
            <a:stCxn id="900" idx="0"/>
            <a:endCxn id="909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6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7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8" name="Text Box 54"/>
          <p:cNvSpPr/>
          <p:nvPr/>
        </p:nvSpPr>
        <p:spPr>
          <a:xfrm>
            <a:off x="7687080" y="1944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19" name="AutoShape 55"/>
          <p:cNvCxnSpPr>
            <a:stCxn id="909" idx="6"/>
            <a:endCxn id="915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0" name="Text Box 56"/>
          <p:cNvSpPr/>
          <p:nvPr/>
        </p:nvSpPr>
        <p:spPr>
          <a:xfrm>
            <a:off x="8292240" y="2819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-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1" name="Text Box 57"/>
          <p:cNvSpPr/>
          <p:nvPr/>
        </p:nvSpPr>
        <p:spPr>
          <a:xfrm>
            <a:off x="8285760" y="38098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-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2" name="Text Box 58"/>
          <p:cNvSpPr/>
          <p:nvPr/>
        </p:nvSpPr>
        <p:spPr>
          <a:xfrm>
            <a:off x="8289360" y="464832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-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3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4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5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26" name="AutoShape 62"/>
          <p:cNvCxnSpPr>
            <a:stCxn id="910" idx="6"/>
            <a:endCxn id="916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AutoShape 63"/>
          <p:cNvCxnSpPr>
            <a:stCxn id="911" idx="6"/>
            <a:endCxn id="917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8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9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0" name="Text Box 69"/>
          <p:cNvSpPr/>
          <p:nvPr/>
        </p:nvSpPr>
        <p:spPr>
          <a:xfrm>
            <a:off x="2370960" y="17524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1" name="Text Box 70"/>
          <p:cNvSpPr/>
          <p:nvPr/>
        </p:nvSpPr>
        <p:spPr>
          <a:xfrm>
            <a:off x="5647320" y="17524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ss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2" name="TextBox 61"/>
          <p:cNvSpPr/>
          <p:nvPr/>
        </p:nvSpPr>
        <p:spPr>
          <a:xfrm>
            <a:off x="2133720" y="57913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3" name="TextBox 63"/>
          <p:cNvSpPr/>
          <p:nvPr/>
        </p:nvSpPr>
        <p:spPr>
          <a:xfrm>
            <a:off x="6518520" y="5799240"/>
            <a:ext cx="12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now, we have assumed static coll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rare but now more frequently occurs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s come in over time and need to be inser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s are deleted and mod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is indu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8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172200" y="3124080"/>
            <a:ext cx="261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“big” main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docs go into “small” auxiliary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across both, and merge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ally, re-index into one main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with main and auxiliary index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ges may touch a lot of stu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rging of the auxiliary index into the main index is efficient if we keep a separate file for each postings list [docIDs are greater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rge is the same as a simple appe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index is one big f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a series of indexes, each twice as large as the previous 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smallest (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n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ones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 on d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ts too big (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write to disk as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merge with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f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ready exists) as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ither write merge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isk as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f no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merge with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form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uxiliary and main inde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ndex construction time is O(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s each posting is touched in each me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garithmic mer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posting is merged O(log T) times, so complexity is O(T log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logarithmic merge is much more efficient for index construction, but its query processing requires the merging of O(log T)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ynamic indexing at search eng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earch engines now support dynamic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(sometimes/typically) they also periodically reconstruct the index from scr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 sorts of index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type of sorting problem … just la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n-gram index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m, need pointers to all dictionary terms containing it – the “posting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uterm inde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all cyclic rotations o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$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T is any te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9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9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Google datacen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rcRect l="5032" t="40158" r="57374" b="266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755280" y="1752120"/>
            <a:ext cx="623268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cuments are parsed to extract words and these are saved with the Document 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027"/>
          <p:cNvSpPr/>
          <p:nvPr/>
        </p:nvSpPr>
        <p:spPr>
          <a:xfrm>
            <a:off x="152280" y="4038480"/>
            <a:ext cx="2743200" cy="2133720"/>
          </a:xfrm>
          <a:prstGeom prst="rect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1028"/>
          <p:cNvSpPr/>
          <p:nvPr/>
        </p:nvSpPr>
        <p:spPr>
          <a:xfrm>
            <a:off x="126756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ctangle 1029"/>
          <p:cNvSpPr/>
          <p:nvPr/>
        </p:nvSpPr>
        <p:spPr>
          <a:xfrm>
            <a:off x="3200400" y="4038480"/>
            <a:ext cx="3124080" cy="2286000"/>
          </a:xfrm>
          <a:prstGeom prst="rect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Text Box 1030"/>
          <p:cNvSpPr/>
          <p:nvPr/>
        </p:nvSpPr>
        <p:spPr>
          <a:xfrm>
            <a:off x="385848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ne 1031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ll: index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3" name="Object 2"/>
          <p:cNvGraphicFramePr/>
          <p:nvPr/>
        </p:nvGraphicFramePr>
        <p:xfrm>
          <a:off x="7391520" y="762120"/>
          <a:ext cx="1623960" cy="60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762120"/>
                    <a:ext cx="162396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1026"/>
          <p:cNvSpPr/>
          <p:nvPr/>
        </p:nvSpPr>
        <p:spPr>
          <a:xfrm>
            <a:off x="701028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5410080" y="915840"/>
          <a:ext cx="1535400" cy="548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915840"/>
                    <a:ext cx="1535400" cy="54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3"/>
          <p:cNvGraphicFramePr/>
          <p:nvPr/>
        </p:nvGraphicFramePr>
        <p:xfrm>
          <a:off x="7467480" y="914400"/>
          <a:ext cx="1352520" cy="547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914400"/>
                    <a:ext cx="135252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ste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all documents have been parsed, the inverted file is sorted by term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AutoShape 1031"/>
          <p:cNvSpPr/>
          <p:nvPr/>
        </p:nvSpPr>
        <p:spPr>
          <a:xfrm>
            <a:off x="482760" y="3270240"/>
            <a:ext cx="3966840" cy="689040"/>
          </a:xfrm>
          <a:prstGeom prst="upArrowCallout">
            <a:avLst>
              <a:gd name="adj1" fmla="val 87910"/>
              <a:gd name="adj2" fmla="val 87848"/>
              <a:gd name="adj3" fmla="val 16667"/>
              <a:gd name="adj4" fmla="val 6666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focus on this sort step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ing index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memory index construction does not sc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we construct an index for very large collec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ing into account. . .memory, disk, speed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rt-based index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we build the index, we parse docs one at a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 building the index, we cannot easily exploit compression tricks  </a:t>
            </a:r>
            <a:r>
              <a:rPr b="0" lang="en-US" sz="2000" spc="-1" strike="noStrike">
                <a:solidFill>
                  <a:srgbClr val="00a000"/>
                </a:solidFill>
                <a:latin typeface="Calibri"/>
              </a:rPr>
              <a:t> (you can, but much more comple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nal postings are incomplete until the 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12 bytes per non-positional postings entr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term, doc, freq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emands a lot of space for large coll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100,000,000 in the case of Reu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… we can do this in memory in 2009, but typical collections are much larger.  E.g.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ew York Tim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n index of &gt;150 years of newsw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e need to store intermediate results on d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the same algorithm for dis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lti-way merge-s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ka BSB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Blocked sort-based Index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1026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23:46:17Z</dcterms:created>
  <dc:creator>Christopher Manning</dc:creator>
  <dc:description/>
  <dc:language>en-US</dc:language>
  <cp:lastModifiedBy>ferragin</cp:lastModifiedBy>
  <cp:lastPrinted>2009-03-27T02:28:50Z</cp:lastPrinted>
  <dcterms:modified xsi:type="dcterms:W3CDTF">2010-10-27T08:43:09Z</dcterms:modified>
  <cp:revision>315</cp:revision>
  <dc:subject/>
  <dc:title>Title</dc:title>
</cp:coreProperties>
</file>